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EE3-1F1D-4B4D-A3BF-046AD1D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4E8-C387-45C6-A7FB-258455C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FF2-DF9E-4587-9DF3-FA8221B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E79-84EF-4A82-A5D1-A914B5B0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A97-E252-4C60-9B90-51210532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7F1-8BB8-4E65-912A-BACFD19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9BA-7903-4E3A-8B9A-E8E2C08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304-AC6C-4520-8B7F-434B584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4DF-213D-480C-B089-5879F15B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814-E72F-411D-A6E0-7D14811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D3E-FD28-4B40-A7B4-D51240C3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73C-FD2F-4A34-ADAE-40111667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345-2CF5-4C16-87B1-ECCAE154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bbaby.ru/calendar2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Учимся определя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ремя по часа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ематика, 1-2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5224320" cy="40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4114800"/>
            <a:ext cx="3581280" cy="24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 МОУ СОШ №49                  г. Волгограда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52" name="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5029200" y="380880"/>
            <a:ext cx="3809880" cy="27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раза по 5 минут 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ят: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62" name="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65" name="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69" name="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72" name="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75" name="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78" name="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105520" y="1371600"/>
            <a:ext cx="3886200" cy="186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инут -                 не говорят.                        Говорят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1219320"/>
            <a:ext cx="3968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360800" y="2811240"/>
            <a:ext cx="1761480" cy="1867680"/>
            <a:chOff x="1360800" y="2811240"/>
            <a:chExt cx="1761480" cy="1867680"/>
          </a:xfrm>
        </p:grpSpPr>
        <p:sp>
          <p:nvSpPr>
            <p:cNvPr id="185" name=""/>
            <p:cNvSpPr/>
            <p:nvPr/>
          </p:nvSpPr>
          <p:spPr>
            <a:xfrm rot="7908600">
              <a:off x="2080440" y="310716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 rot="18893400">
              <a:off x="1405800" y="380304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1977840" y="2248560"/>
            <a:ext cx="594000" cy="3032280"/>
            <a:chOff x="1977840" y="2248560"/>
            <a:chExt cx="594000" cy="3032280"/>
          </a:xfrm>
        </p:grpSpPr>
        <p:sp>
          <p:nvSpPr>
            <p:cNvPr id="188" name=""/>
            <p:cNvSpPr/>
            <p:nvPr/>
          </p:nvSpPr>
          <p:spPr>
            <a:xfrm rot="5301600">
              <a:off x="1458720" y="2813040"/>
              <a:ext cx="1613520" cy="497880"/>
            </a:xfrm>
            <a:prstGeom prst="leftArrow">
              <a:avLst>
                <a:gd name="adj1" fmla="val 50000"/>
                <a:gd name="adj2" fmla="val 810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 rot="16172400">
              <a:off x="1439640" y="4153320"/>
              <a:ext cx="1669680" cy="5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72440" y="3305880"/>
            <a:ext cx="2183400" cy="1127880"/>
            <a:chOff x="1072440" y="3305880"/>
            <a:chExt cx="2183400" cy="1127880"/>
          </a:xfrm>
        </p:grpSpPr>
        <p:sp>
          <p:nvSpPr>
            <p:cNvPr id="192" name=""/>
            <p:cNvSpPr/>
            <p:nvPr/>
          </p:nvSpPr>
          <p:spPr>
            <a:xfrm rot="20624400">
              <a:off x="1128960" y="3739320"/>
              <a:ext cx="1061640" cy="556560"/>
            </a:xfrm>
            <a:prstGeom prst="leftArrow">
              <a:avLst>
                <a:gd name="adj1" fmla="val 50000"/>
                <a:gd name="adj2" fmla="val 476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 rot="10008600">
              <a:off x="2074680" y="3425760"/>
              <a:ext cx="11239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96800" y="2985120"/>
            <a:ext cx="1908000" cy="1711440"/>
            <a:chOff x="1396800" y="2985120"/>
            <a:chExt cx="1908000" cy="1711440"/>
          </a:xfrm>
        </p:grpSpPr>
        <p:sp>
          <p:nvSpPr>
            <p:cNvPr id="195" name=""/>
            <p:cNvSpPr/>
            <p:nvPr/>
          </p:nvSpPr>
          <p:spPr>
            <a:xfrm rot="13159800">
              <a:off x="2236680" y="392004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 rot="2544600">
              <a:off x="1449720" y="327420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94960" y="2403000"/>
            <a:ext cx="1799640" cy="2275920"/>
            <a:chOff x="1794960" y="2403000"/>
            <a:chExt cx="1799640" cy="2275920"/>
          </a:xfrm>
        </p:grpSpPr>
        <p:sp>
          <p:nvSpPr>
            <p:cNvPr id="201" name=""/>
            <p:cNvSpPr/>
            <p:nvPr/>
          </p:nvSpPr>
          <p:spPr>
            <a:xfrm rot="14206800">
              <a:off x="2437920" y="377424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 rot="3591600">
              <a:off x="1723320" y="28170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343600" y="1907640"/>
            <a:ext cx="667080" cy="3283920"/>
            <a:chOff x="2343600" y="1907640"/>
            <a:chExt cx="667080" cy="3283920"/>
          </a:xfrm>
        </p:grpSpPr>
        <p:sp>
          <p:nvSpPr>
            <p:cNvPr id="204" name=""/>
            <p:cNvSpPr/>
            <p:nvPr/>
          </p:nvSpPr>
          <p:spPr>
            <a:xfrm rot="16059000">
              <a:off x="1833480" y="403956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 rot="5330400">
              <a:off x="1774080" y="250128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5029200" y="228600"/>
            <a:ext cx="38098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минутная стрелка пересекла получасовую отметку, время называют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4400000">
                                      <p:cBhvr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1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003040" y="2341080"/>
            <a:ext cx="1383120" cy="2410920"/>
            <a:chOff x="2003040" y="2341080"/>
            <a:chExt cx="1383120" cy="2410920"/>
          </a:xfrm>
        </p:grpSpPr>
        <p:sp>
          <p:nvSpPr>
            <p:cNvPr id="211" name=""/>
            <p:cNvSpPr/>
            <p:nvPr/>
          </p:nvSpPr>
          <p:spPr>
            <a:xfrm rot="14962200">
              <a:off x="2323440" y="3836520"/>
              <a:ext cx="1218600" cy="510120"/>
            </a:xfrm>
            <a:prstGeom prst="leftArrow">
              <a:avLst>
                <a:gd name="adj1" fmla="val 50000"/>
                <a:gd name="adj2" fmla="val 5972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 rot="4347000">
              <a:off x="1827360" y="2754360"/>
              <a:ext cx="129024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085760" y="2488680"/>
            <a:ext cx="3140640" cy="2099160"/>
            <a:chOff x="1085760" y="2488680"/>
            <a:chExt cx="3140640" cy="2099160"/>
          </a:xfrm>
        </p:grpSpPr>
        <p:sp>
          <p:nvSpPr>
            <p:cNvPr id="214" name=""/>
            <p:cNvSpPr/>
            <p:nvPr/>
          </p:nvSpPr>
          <p:spPr>
            <a:xfrm rot="8998200">
              <a:off x="2464560" y="288864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 rot="19869600">
              <a:off x="1125360" y="356292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029200" y="228600"/>
            <a:ext cx="3809880" cy="17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 часов 40 мину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или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 двадцати две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76520"/>
            <a:ext cx="9144000" cy="3429000"/>
            <a:chOff x="0" y="1676520"/>
            <a:chExt cx="9144000" cy="342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50539" t="49169" r="0" b="0"/>
            <a:stretch/>
          </p:blipFill>
          <p:spPr>
            <a:xfrm>
              <a:off x="0" y="1676520"/>
              <a:ext cx="2249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49169" r="49467" b="0"/>
            <a:stretch/>
          </p:blipFill>
          <p:spPr>
            <a:xfrm>
              <a:off x="6845400" y="1676520"/>
              <a:ext cx="2298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0" t="0" r="48232" b="50835"/>
            <a:stretch/>
          </p:blipFill>
          <p:spPr>
            <a:xfrm>
              <a:off x="2178000" y="1676520"/>
              <a:ext cx="2436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2357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200" y="121932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ebbaby.ru/calendar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тих Ирины Гуриной «Забавн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760" y="1752480"/>
            <a:ext cx="78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коллаж.net/photoscard/insert344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изображение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тикают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лки – длинные 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 за часом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ходить совсем не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23040" y="3463200"/>
            <a:ext cx="1266480" cy="1881000"/>
            <a:chOff x="6323040" y="3463200"/>
            <a:chExt cx="1266480" cy="1881000"/>
          </a:xfrm>
        </p:grpSpPr>
        <p:sp>
          <p:nvSpPr>
            <p:cNvPr id="50" name=""/>
            <p:cNvSpPr/>
            <p:nvPr/>
          </p:nvSpPr>
          <p:spPr>
            <a:xfrm rot="7350000">
              <a:off x="6683760" y="381168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rot="18334800">
              <a:off x="6248160" y="462600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5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ощёкий циферб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зать нам врем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ры – как вес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япка на мак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961240" y="3871800"/>
            <a:ext cx="1913760" cy="1189080"/>
            <a:chOff x="5961240" y="3871800"/>
            <a:chExt cx="1913760" cy="1189080"/>
          </a:xfrm>
        </p:grpSpPr>
        <p:sp>
          <p:nvSpPr>
            <p:cNvPr id="60" name=""/>
            <p:cNvSpPr/>
            <p:nvPr/>
          </p:nvSpPr>
          <p:spPr>
            <a:xfrm rot="1775400">
              <a:off x="5974560" y="409824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12760200">
              <a:off x="6799680" y="444096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6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шляпка в нуж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звенев, разбуд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к-так, тик-т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часов нельзя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10280" y="3763800"/>
            <a:ext cx="1909080" cy="1202400"/>
            <a:chOff x="6110280" y="3763800"/>
            <a:chExt cx="1909080" cy="1202400"/>
          </a:xfrm>
        </p:grpSpPr>
        <p:sp>
          <p:nvSpPr>
            <p:cNvPr id="70" name=""/>
            <p:cNvSpPr/>
            <p:nvPr/>
          </p:nvSpPr>
          <p:spPr>
            <a:xfrm rot="12603600">
              <a:off x="7003800" y="4416480"/>
              <a:ext cx="1002600" cy="320040"/>
            </a:xfrm>
            <a:prstGeom prst="leftArrow">
              <a:avLst>
                <a:gd name="adj1" fmla="val 50000"/>
                <a:gd name="adj2" fmla="val 783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 rot="1988400">
              <a:off x="6122880" y="4024440"/>
              <a:ext cx="106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7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9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2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952880" y="60948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ов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44792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утн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35" repeatCount="4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9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04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07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13" name="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16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123" name="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26" name="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30" name="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33" name="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36" name="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01T16:07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